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04659"/>
        <c:axId val="21297210"/>
      </c:barChart>
      <c:catAx>
        <c:axId val="17304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97210"/>
        <c:crosses val="autoZero"/>
        <c:auto val="1"/>
        <c:lblAlgn val="ctr"/>
        <c:lblOffset val="100"/>
        <c:noMultiLvlLbl val="0"/>
      </c:catAx>
      <c:valAx>
        <c:axId val="21297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4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CF5-0395-40EA-8848-0D4AC2E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569-1512-47B9-A4B2-30779139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302-8F0E-4897-9B51-CB6B539A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E4A-9B17-4801-ADD0-B6477445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13F-846D-44AA-BFC4-F755CE8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4D5-B7F7-4F13-96EF-2D0F4256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844-3F94-4466-BB14-E657628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970-2248-4A56-A9BF-87D9623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C41-6F7F-4C73-B158-11B4B900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8D7-E895-4A97-B9EB-620397D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D51-E6E7-49F6-B40D-DEBB60E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55C-62BA-4D71-8EC5-1891E078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0E956-C401-4BDB-A389-6A9AB3B354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