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01377"/>
        <c:axId val="85504227"/>
      </c:barChart>
      <c:catAx>
        <c:axId val="12601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04227"/>
        <c:crosses val="autoZero"/>
        <c:auto val="1"/>
        <c:lblAlgn val="ctr"/>
        <c:lblOffset val="100"/>
        <c:noMultiLvlLbl val="0"/>
      </c:catAx>
      <c:valAx>
        <c:axId val="85504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01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405-EAB4-4606-AE7F-3CC176B4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D56-AD8B-4D7A-8A27-8FCA8EE2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7FE-39DF-44BE-9815-81EA392D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FE8-AD5C-43BD-9054-4CE07D94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238-09AD-451C-8C8C-922924AC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A1C-BAFB-4354-9E87-272007D3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6BD-D43E-408B-A38D-D14A2FA0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9F9-CB48-407D-974C-B7AE9F91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D22-92D2-49CD-9DA4-47AE8033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4E3-0E9B-4C49-AF03-0F12E17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192-C85E-4397-BD9E-E7C4C4A4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1A3-7CDD-47FF-A857-D678AA93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DFA50-F9CB-412C-ACDD-E4BC73D423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