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145520"/>
        <c:axId val="57120889"/>
      </c:barChart>
      <c:catAx>
        <c:axId val="711455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20889"/>
        <c:crosses val="autoZero"/>
        <c:auto val="1"/>
        <c:lblAlgn val="ctr"/>
        <c:lblOffset val="100"/>
        <c:noMultiLvlLbl val="0"/>
      </c:catAx>
      <c:valAx>
        <c:axId val="571208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455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5E1B-CF52-4708-96BB-1A9A3AA9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28DD-D283-4293-8542-0E7989DE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BEFF-6AC8-4EAF-A6A6-02CFC1CE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2537-B487-463D-8F31-B4220ECD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AF67-747D-4385-8483-A98EAFDA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107A-B511-4E7C-9A94-BAF348B3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A438-DDE8-4948-B851-F1797A38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5FB2-6242-4B2B-880D-26D1EDD5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5BF6-3399-4EE6-9E33-DCC399AC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9CAE-0362-41F0-BDDC-D790336A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F889-8CEC-4BC7-8D17-E32053D2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6495-758C-45AF-B244-3804D6AC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FB6AC-97A2-4156-A3F6-AE1F92A482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