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86542"/>
        <c:axId val="6598050"/>
      </c:barChart>
      <c:catAx>
        <c:axId val="52286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8050"/>
        <c:crosses val="autoZero"/>
        <c:auto val="1"/>
        <c:lblAlgn val="ctr"/>
        <c:lblOffset val="100"/>
        <c:noMultiLvlLbl val="0"/>
      </c:catAx>
      <c:valAx>
        <c:axId val="6598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6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5D9-FCC4-466C-90C2-499A9DC6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647-8D93-4D3B-8F32-BBDBB550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3C4-40EA-4893-8A91-16249E5A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750-6BB1-437C-8CC1-EF453267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DF8-0002-442B-B42A-29BA9CB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A8D-4B9A-4497-8B0A-4858740D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60D-4D86-482F-B2BA-49857C8D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3A3-9860-422A-A1F1-046580A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99C-1CC8-4800-A424-60D205A7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79A-8AC8-4DF6-9217-4E674E5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4CA-C9C4-49C4-9CF1-CC038F2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B92-3F47-4862-9587-2DB30F56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09AD1-FA51-4114-868E-6DA5B65AD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