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97836"/>
        <c:axId val="99415911"/>
      </c:barChart>
      <c:catAx>
        <c:axId val="80697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15911"/>
        <c:crosses val="autoZero"/>
        <c:auto val="1"/>
        <c:lblAlgn val="ctr"/>
        <c:lblOffset val="100"/>
        <c:noMultiLvlLbl val="0"/>
      </c:catAx>
      <c:valAx>
        <c:axId val="99415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97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2FF-7CF9-46CF-A7D0-84360EDD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90F-2925-4D43-926C-FB6F5106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1E3C-6F7E-4B81-9254-0AEB3370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0B2-CBAE-4D2C-B4ED-F575D207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C0D-5E6E-4242-A7F0-22C35F6C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4E5-6030-48D3-8C2D-2342E199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652-3359-4F45-A19D-EFF5D240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BFF-C3CC-4894-9485-CFA94FBF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B4A-B140-4534-9488-A6023FA0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616-71DC-4913-B78E-F61D00C2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C9E-0C43-45B3-85C2-988DF6C9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15A-F7B6-49DD-BEF9-CAB8EA23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A4D2C-7BBB-45A0-BF44-D4806D8268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