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17106"/>
        <c:axId val="69012814"/>
      </c:barChart>
      <c:catAx>
        <c:axId val="53017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2814"/>
        <c:crosses val="autoZero"/>
        <c:auto val="1"/>
        <c:lblAlgn val="ctr"/>
        <c:lblOffset val="100"/>
        <c:noMultiLvlLbl val="0"/>
      </c:catAx>
      <c:valAx>
        <c:axId val="69012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17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140-C871-4FE6-B9F3-55B5D038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346-5926-4570-B457-7B42701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3E2-EB71-4DE4-AD52-31157974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CE4-22B4-4784-A67D-11B1918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24E-CF2E-428C-AE38-608D5EA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775-B010-4380-A611-87FD7D31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ABA-0018-4180-995A-111C9DAB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86C-D768-49C1-A4DC-D713D93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E33-70E1-4C3E-8774-CBFED22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F5F-965E-42D5-8FD9-9FC6B63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7E6-2132-4ED4-9A50-1D3ACDF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917-AD84-4C51-8A09-07F248E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707B2-7587-4D8C-946A-8BDEADB9DE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