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17131"/>
        <c:axId val="76202812"/>
      </c:barChart>
      <c:catAx>
        <c:axId val="95117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02812"/>
        <c:crosses val="autoZero"/>
        <c:auto val="1"/>
        <c:lblAlgn val="ctr"/>
        <c:lblOffset val="100"/>
        <c:noMultiLvlLbl val="0"/>
      </c:catAx>
      <c:valAx>
        <c:axId val="76202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7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6F1-F02C-4722-AD13-FC932045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104-EAAF-4983-8BAE-320FBF0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79D-F7ED-4202-996F-A022D901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DAC-F9DF-42AA-AEEB-2761E3FE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7FD-02AF-4A30-8AB6-906717AD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E49-BE7A-4C09-B609-D63B81CD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DA6-AEC4-49CE-AF4E-78ECCFE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378-6583-4FA4-9645-696CDD1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C8A-1674-481F-82B6-D0BA1668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568-4E8F-494D-94A7-2B2FCB9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471-4CDB-4055-A554-6F5DD5E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F9E-F1FA-41DA-8EAE-B9843D8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17FB2-DEE6-4BB0-9746-56AE2B3C79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