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56087"/>
        <c:axId val="84708153"/>
      </c:barChart>
      <c:catAx>
        <c:axId val="61456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8153"/>
        <c:crosses val="autoZero"/>
        <c:auto val="1"/>
        <c:lblAlgn val="ctr"/>
        <c:lblOffset val="100"/>
        <c:noMultiLvlLbl val="0"/>
      </c:catAx>
      <c:valAx>
        <c:axId val="84708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56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E8A-E9B4-471B-B8C5-00FC3A57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7C6-BB26-4ECF-844A-3336BD4A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E81-DE90-4B9D-8267-0ACA8997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C51-EBF3-48ED-A58C-3A9387A1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F64-FA2A-414B-8E5C-2B8F19F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48D-E039-44C8-90D3-D4A7999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86F-EC79-4EE9-9D5C-63E27CCC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6B2-340D-42FE-8F0C-C17C339A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0E8-0DF5-4008-B589-6A561C3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792-762B-400D-B61B-0D803DE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E1A-9DF5-4E9B-A253-2BE235B2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BE3-3AC4-4E6F-AC84-607BF5C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8E4EE-90AC-42E2-A48D-A6FEB57559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