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95030"/>
        <c:axId val="16427862"/>
      </c:barChart>
      <c:catAx>
        <c:axId val="24495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7862"/>
        <c:crosses val="autoZero"/>
        <c:auto val="1"/>
        <c:lblAlgn val="ctr"/>
        <c:lblOffset val="100"/>
        <c:noMultiLvlLbl val="0"/>
      </c:catAx>
      <c:valAx>
        <c:axId val="16427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95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2C1-78DE-49B9-AD2A-CAE5AD92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D08-8761-43B7-8065-2E8FE28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501-84DD-43D0-94CE-DA9A56F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453-3242-4C50-9C1C-BDE04CE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085-2ED4-48E5-81EC-3F172C6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BFE-8601-4D21-90EC-3095B58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6D0-D205-45A9-8C6A-250CFD9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107-D5E6-4DEB-A62C-35DA7D7A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677-5CB7-4F1C-A231-A7C6209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8A7-251D-472E-85D0-3E2DC99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622-7FDB-4E30-95BA-A69A47C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942-25C3-4C04-B8C0-4F27115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9BA04-EDCD-489A-A40A-14C1214E58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