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9523"/>
        <c:axId val="69008038"/>
      </c:barChart>
      <c:catAx>
        <c:axId val="21759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8038"/>
        <c:crosses val="autoZero"/>
        <c:auto val="1"/>
        <c:lblAlgn val="ctr"/>
        <c:lblOffset val="100"/>
        <c:noMultiLvlLbl val="0"/>
      </c:catAx>
      <c:valAx>
        <c:axId val="69008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9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67A-9941-4B0A-A598-5F2EBD5B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176-8C07-402C-84CA-998E12A7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E98-32EA-4F68-885D-4A439A8A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DE2-F138-474E-B857-D02E79F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F8F-5632-4B22-83C1-F5ED6B08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05B-8879-48AE-8B8B-E9C39890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265-99AF-4663-AA39-958FA9D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368-83C7-4718-91C9-53AC9A13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038-593D-4063-8033-5272B5E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6C0-B0FC-4294-B472-A0AD1FD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118-D1A3-459E-A690-ECB9140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319-F6FE-4F62-BA8E-50863621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B94A6-5513-42BB-A168-E9CA19C5CC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