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24606"/>
        <c:axId val="48332625"/>
      </c:barChart>
      <c:catAx>
        <c:axId val="42924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32625"/>
        <c:crosses val="autoZero"/>
        <c:auto val="1"/>
        <c:lblAlgn val="ctr"/>
        <c:lblOffset val="100"/>
        <c:noMultiLvlLbl val="0"/>
      </c:catAx>
      <c:valAx>
        <c:axId val="48332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4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82F-60D7-48D4-AAF2-E6508FEA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151-A367-424F-88B8-08A7B11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F6D-E7B4-4181-90A2-810EB166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930-B058-42C7-8EEC-2A39CABD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00E-84C9-4135-A53D-38461318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D08-8627-4E95-949C-0E8F7BA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76B-7453-4389-A60E-A889AE3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F81-35CC-4FD7-83E4-DB67A88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1FD-A82A-4921-8BB2-A856B05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99F-1D6B-43C5-9830-89F1BD61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0B0-161E-49AB-802D-2AA7B58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984-4A38-4EE5-A24C-9E0E019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BFD3-7719-4C96-9B8F-116AA65EC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