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6419"/>
        <c:axId val="65052084"/>
      </c:barChart>
      <c:catAx>
        <c:axId val="7846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52084"/>
        <c:crosses val="autoZero"/>
        <c:auto val="1"/>
        <c:lblAlgn val="ctr"/>
        <c:lblOffset val="100"/>
        <c:noMultiLvlLbl val="0"/>
      </c:catAx>
      <c:valAx>
        <c:axId val="65052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6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136-1658-4FC9-9E97-E00B7A3F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9BB-1964-4A8D-877F-B443B1B5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E4A-AD68-4F0A-A55A-435E2158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811-0F12-44A8-81A3-2D3B7727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C7A-A1CC-4196-BB30-A8E1BB7F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21B-B4AC-4C29-92F6-A027E0F9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001-31DE-4E25-9324-157C627D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82D-BAF5-4714-9718-78794042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8DF-842B-41D6-9337-5178EA3D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47C-D89A-4ADA-91AD-996AC37C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957-7D81-4D27-8916-E175836A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CDF-EB82-480C-AF19-FB45392D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72F77-9B40-4B6F-9D89-E1945F3E24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