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15232"/>
        <c:axId val="25471360"/>
      </c:barChart>
      <c:catAx>
        <c:axId val="18315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71360"/>
        <c:crosses val="autoZero"/>
        <c:auto val="1"/>
        <c:lblAlgn val="ctr"/>
        <c:lblOffset val="100"/>
        <c:noMultiLvlLbl val="0"/>
      </c:catAx>
      <c:valAx>
        <c:axId val="25471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15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3401-5FC7-47A0-A845-329EFE5D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DA5-3D5B-41AF-AB3C-7356E02B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060-CDA8-4609-A01E-F17CFBC5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3113-F5B1-4F04-8935-E7635B00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7A0-3847-4E1F-AAF9-6A469FE7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AD3-DD62-4FB0-A4A9-0112C63A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9B0-9E78-43F3-8D3A-87B91A38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1DE-F7E8-4D77-9105-8131E8DF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217-FD5C-4F05-BFFB-7C6A51E2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C584-BA69-4DE2-ACC7-329421E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AA8-9C36-4118-BA17-3ED96F6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99AD-5A2E-4DE4-BC44-1136EAF2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AD6B9-649B-48F5-9646-CB8E575CB3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