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87399"/>
        <c:axId val="6631276"/>
      </c:barChart>
      <c:catAx>
        <c:axId val="95787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1276"/>
        <c:crosses val="autoZero"/>
        <c:auto val="1"/>
        <c:lblAlgn val="ctr"/>
        <c:lblOffset val="100"/>
        <c:noMultiLvlLbl val="0"/>
      </c:catAx>
      <c:valAx>
        <c:axId val="6631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87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C79-6A5B-4AD9-A355-B4B4AB7B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83E-EA68-47E5-BDBC-BE3DBCF9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DDA-E815-4F78-ADF5-5812EE90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F03-C28E-4EB6-994A-92722931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37C-A81F-4B0F-B812-F9D57AA9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E22-6C0F-4235-BC80-0814B205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DB8-AA69-402E-A59D-BB019028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D10-E55E-4A48-8146-36CB8A33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058-5A1F-495F-A227-8F4E1FA8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1AC-F690-433E-B025-E9FDEB1B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5F4-51CE-413A-8B83-C28716EB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630-5F51-474E-8F3A-D80B7698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C58CA-6216-407D-BD47-40DBD773C4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