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41206"/>
        <c:axId val="1126701"/>
      </c:barChart>
      <c:catAx>
        <c:axId val="83041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6701"/>
        <c:crosses val="autoZero"/>
        <c:auto val="1"/>
        <c:lblAlgn val="ctr"/>
        <c:lblOffset val="100"/>
        <c:noMultiLvlLbl val="0"/>
      </c:catAx>
      <c:valAx>
        <c:axId val="11267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41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AC55-3706-47E4-9E11-EE94CF71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FB4-380F-4F18-B5C9-5DBBEFAB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4A56-4168-439C-8863-35C0A5B8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372-334F-4EA6-B3EA-D4B6B56A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84D4-64B2-43BE-AAA9-523AF15D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812-7C9C-461C-A31B-90D3C965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B3F-2AE7-47F1-AD11-3EF60233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FC41-F7E7-4D95-8FAA-0841470C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3F39-9F71-4AB7-A9EC-C1A5E24C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00A-DAA4-4AB7-97AC-ABCE8782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DE6-19D5-44BC-81A6-43DEDEEA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724-5185-4350-B772-C15206D5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0D3F4-6190-4E01-BA31-6DB1CD9B52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