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34233"/>
        <c:axId val="76595079"/>
      </c:barChart>
      <c:catAx>
        <c:axId val="32134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95079"/>
        <c:crosses val="autoZero"/>
        <c:auto val="1"/>
        <c:lblAlgn val="ctr"/>
        <c:lblOffset val="100"/>
        <c:noMultiLvlLbl val="0"/>
      </c:catAx>
      <c:valAx>
        <c:axId val="76595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34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178-3DF2-4897-9428-A1A7BF36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669-F255-4FD3-9327-913DF3B8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68A-A28D-456B-A3F1-047653AA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8C0-8275-431F-8C68-3D782DD7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6A1-8628-4C5F-98A7-DC5F90D0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A5F-A492-4B58-ACAC-08C818AE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BB3-5351-4BBE-993C-EB2FC132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E50-B6CF-4506-8D99-53313934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D4A-87FC-4328-A46F-33A3A596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49F-B8A3-47B0-9B1F-0A90B1C2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C91-2A84-4E94-96EE-533D803F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D68-1B8E-452C-AFD3-B2B66F3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87FBE-1CA4-4008-B0D4-E079CEE5E9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