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92037"/>
        <c:axId val="57989244"/>
      </c:barChart>
      <c:catAx>
        <c:axId val="76592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89244"/>
        <c:crosses val="autoZero"/>
        <c:auto val="1"/>
        <c:lblAlgn val="ctr"/>
        <c:lblOffset val="100"/>
        <c:noMultiLvlLbl val="0"/>
      </c:catAx>
      <c:valAx>
        <c:axId val="57989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92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B48-9A18-474D-B320-6E06E271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086-EB14-4716-8F2D-ACBB2333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2D8-6F32-4AA3-B65C-AE3D288E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879-80F2-41F5-884B-BD53D081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13E-6F9D-4F21-8CB1-2A343BC7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966-71A6-41BB-9480-B0B8FFEA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3FA-B5D4-44E5-9CCE-64DD965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678-BDFE-4379-B574-62CB247C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1B0-9445-467E-99A4-5A2E9080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BC8-29C9-4A39-8898-2032D46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443-C275-4B83-A016-14AB978E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14E-0985-4028-9CF0-1C874F6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E0255-B4C7-4DDB-AC89-424876212A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