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81819"/>
        <c:axId val="73554760"/>
      </c:barChart>
      <c:catAx>
        <c:axId val="32581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54760"/>
        <c:crosses val="autoZero"/>
        <c:auto val="1"/>
        <c:lblAlgn val="ctr"/>
        <c:lblOffset val="100"/>
        <c:noMultiLvlLbl val="0"/>
      </c:catAx>
      <c:valAx>
        <c:axId val="73554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81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A1D-2136-467F-8C31-AD59577C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1A5-6ED7-43F7-A061-1FD8ACDD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237-46D3-47FD-A3ED-D38C1CC1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C12-4F38-4723-A945-D3DDD536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B45-A400-4BF7-8FC1-36F637AE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0E2-29E3-40DC-B34B-C5F35926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0A2-B473-4032-8896-8553A558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761-5229-43EE-B24B-DE17F6BB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731-754A-4C9D-B847-18C06612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3ED-C4F2-433B-87EF-3AEAAD31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681-CDC4-48B0-B3D6-EA811CB3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9E7-F9E2-4E3E-BD6A-B020D965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1B952-4968-430E-A6FC-3D020F483D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