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5348"/>
        <c:axId val="35528890"/>
      </c:barChart>
      <c:catAx>
        <c:axId val="9665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28890"/>
        <c:crosses val="autoZero"/>
        <c:auto val="1"/>
        <c:lblAlgn val="ctr"/>
        <c:lblOffset val="100"/>
        <c:noMultiLvlLbl val="0"/>
      </c:catAx>
      <c:valAx>
        <c:axId val="35528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5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C2C-1FC6-446C-B3AF-5C1E8DAA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E60-7220-45B9-8C1B-CD10AD7D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2B8-D27F-4D30-9620-CE9200D5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F43-4608-4E98-879C-8CDB9136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158-5EEE-405B-ACDF-687D0D17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931-8E68-4388-A766-95D688FA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C24-7D21-4282-972F-DC29462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948-8293-4F46-9B87-61C1120C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5CD-8F0B-4F8B-BA68-B990B8A0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E6E-E283-4C2C-8F70-1910F5F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2B9-33E6-4996-9D83-276ED2C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16A-6B94-4CC6-A27D-565EBA2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3F7D-9C80-4D85-839F-C4277A1330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