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944322"/>
        <c:axId val="33206922"/>
      </c:barChart>
      <c:catAx>
        <c:axId val="279443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206922"/>
        <c:crosses val="autoZero"/>
        <c:auto val="1"/>
        <c:lblAlgn val="ctr"/>
        <c:lblOffset val="100"/>
        <c:noMultiLvlLbl val="0"/>
      </c:catAx>
      <c:valAx>
        <c:axId val="332069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9443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D240-B651-4B1C-A08E-7A66ECFFF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715A-8724-42B7-BBCC-4635019F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E768-33E6-4542-96A0-CEF59D4FE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4B56-E24C-4205-8458-45011929C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AE23-1513-4270-8DF1-563C66CB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3A7B-C234-4824-833D-0C2D6037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8FA3-235A-4C94-920A-816A90BA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8F80-C1C3-4DBC-98B0-253B8010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60C7-45C9-425D-AB17-973C4145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D0AE-412E-4EBC-9A66-A010C409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86A2-9A6F-4C65-B12B-CCC7BCE7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BE62-C513-46B5-88D9-91BA5D78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5C3A28-E423-4BF2-AB82-6FADAC4BD7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