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82721"/>
        <c:axId val="26534308"/>
      </c:barChart>
      <c:catAx>
        <c:axId val="37982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34308"/>
        <c:crosses val="autoZero"/>
        <c:auto val="1"/>
        <c:lblAlgn val="ctr"/>
        <c:lblOffset val="100"/>
        <c:noMultiLvlLbl val="0"/>
      </c:catAx>
      <c:valAx>
        <c:axId val="26534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82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561-D8BF-4DAE-8F1E-872BCE3B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108-6AC9-4690-92A5-AE89B410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16C-6AD6-4FC1-B37D-D313DC69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2E6-C9BF-4AAF-8F15-47910A5B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940-8B41-45F4-A7B3-6D70D723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C2A-D781-4000-8272-E39735B0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767-665C-498D-8757-25D74EC9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499-DD9E-4536-99B1-1586C554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983-3193-470E-930B-64B1D428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0F7-4CE7-40E8-BF39-E2129C30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432-0C18-4338-A3FF-9A969300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5DC-719E-4A56-B532-A8529925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03CA8-5320-46BE-9191-2E5036A9BA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