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77728"/>
        <c:axId val="56225639"/>
      </c:barChart>
      <c:catAx>
        <c:axId val="77977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25639"/>
        <c:crosses val="autoZero"/>
        <c:auto val="1"/>
        <c:lblAlgn val="ctr"/>
        <c:lblOffset val="100"/>
        <c:noMultiLvlLbl val="0"/>
      </c:catAx>
      <c:valAx>
        <c:axId val="56225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77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42E-8E81-4BC8-82A7-50909560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EDF-DF01-4CCD-9A51-7B4C39CB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23D-E320-4993-A3BE-78935E97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232-D0DE-497D-8F6D-B0450AF2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6D5-75F8-4949-B1F2-27B0D390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7A7-240C-4A1F-8438-DA73A69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351-C2DD-4E2B-ADA3-F08D8F3E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3FB-930C-47C3-9BD3-85AE323C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3BE-E8EA-4E2B-90C9-989A091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EF2-4B62-420B-8D61-F91BEF7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40A-4815-4DCC-897A-65BCF79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251-604F-454F-9B25-4BFC5CB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2E8AA-63DF-435F-A9D7-82522869C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