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28190"/>
        <c:axId val="67782711"/>
      </c:barChart>
      <c:catAx>
        <c:axId val="96528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82711"/>
        <c:crosses val="autoZero"/>
        <c:auto val="1"/>
        <c:lblAlgn val="ctr"/>
        <c:lblOffset val="100"/>
        <c:noMultiLvlLbl val="0"/>
      </c:catAx>
      <c:valAx>
        <c:axId val="67782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28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363-D9FF-4913-9986-7C504E19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C9F-144A-4299-ABCD-BF1B3DEC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0A9-3754-4D41-B6AB-76C06586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C80-D496-48FE-88FC-854380CA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374-DEEC-46A7-A666-FE7A0426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368-3D77-4E33-BBE3-9ACC0DAA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E9A-1158-40EB-95EC-AAA5F041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FE3-F47D-4783-94AE-8C70F873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E88-8CCA-4459-BD2F-F7F07679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698-69C6-4D18-AC66-703BB3E4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4BE-3CEB-4E73-985D-3F22814F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10E-FC51-4EB1-89B8-4BB4A866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EF848-469E-4405-9A88-7836F9EAA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