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08791"/>
        <c:axId val="32586832"/>
      </c:barChart>
      <c:catAx>
        <c:axId val="52908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86832"/>
        <c:crosses val="autoZero"/>
        <c:auto val="1"/>
        <c:lblAlgn val="ctr"/>
        <c:lblOffset val="100"/>
        <c:noMultiLvlLbl val="0"/>
      </c:catAx>
      <c:valAx>
        <c:axId val="3258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08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DEE-BE65-426E-A7EA-B2C46175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930-A54A-4112-93D2-238EADB7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FC2-65D5-402C-ACFE-D1C879A0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C2D-38B0-4073-B3F2-AF4654B2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A8C-DE3B-4A34-A18F-A6DA1563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4BA-4D2B-4301-8CBC-E061E33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713-7DD2-48F4-8D72-1924E11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6C2-DC83-403E-B2DB-E7253C4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341-4593-463C-914D-E87596D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A61-7D0F-4D97-91ED-E482834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B3F-71B5-48BA-BEBB-676A6490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2C1-8400-4A1D-A3A9-47B79822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FC427-B987-45FF-AD4E-A8255604C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