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60046"/>
        <c:axId val="24402603"/>
      </c:barChart>
      <c:catAx>
        <c:axId val="66760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02603"/>
        <c:crosses val="autoZero"/>
        <c:auto val="1"/>
        <c:lblAlgn val="ctr"/>
        <c:lblOffset val="100"/>
        <c:noMultiLvlLbl val="0"/>
      </c:catAx>
      <c:valAx>
        <c:axId val="24402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0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996-B159-463E-A2AC-46A558EE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C68-9CCB-4C0D-BF62-71C7FF08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FEE-FC23-49D4-ACB2-56430B79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D9D-A99B-4D78-A2DC-92348FE4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4D6-1948-4C9F-95DC-94A7087F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195-B233-453B-AF9A-295B19D0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BA3-EA1F-474D-9649-A96C9D80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685-6AD6-430D-8395-EEC9B1A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EDD-372F-418E-9817-5044E6E2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960-E2FA-447D-A814-D4D5756A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AF8-5594-4004-B4FF-7E9FD8BA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6EB-121C-494F-8DA4-B743D53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5286E-38F8-458C-9811-CA0F48611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