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05107"/>
        <c:axId val="53918035"/>
      </c:barChart>
      <c:catAx>
        <c:axId val="41605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8035"/>
        <c:crosses val="autoZero"/>
        <c:auto val="1"/>
        <c:lblAlgn val="ctr"/>
        <c:lblOffset val="100"/>
        <c:noMultiLvlLbl val="0"/>
      </c:catAx>
      <c:valAx>
        <c:axId val="53918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05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AF2-87FA-45F5-BB0E-DB03DF91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00D-4A15-4B74-8A52-9ADE38FF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47E-5E94-4EA6-9A0A-CD03618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3AE-E02D-48F0-9CB1-221804FB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48D-EAE1-45DA-922B-9F6C468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3F5-9D93-42DD-AA43-D37C18D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A92-AFC2-42DB-87F9-5C05CAFD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E01-8C36-413B-B440-B6078401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0B9-4BED-4E40-821C-2450CC9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3C4-9105-4840-B1C1-F428E8B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2D2-AD2D-4161-868A-1969935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01B-C730-4B2D-9E2C-12292EE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1D754-CAAA-4617-9E64-6E89532410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