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750904"/>
        <c:axId val="74628253"/>
      </c:barChart>
      <c:catAx>
        <c:axId val="637509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28253"/>
        <c:crosses val="autoZero"/>
        <c:auto val="1"/>
        <c:lblAlgn val="ctr"/>
        <c:lblOffset val="100"/>
        <c:noMultiLvlLbl val="0"/>
      </c:catAx>
      <c:valAx>
        <c:axId val="746282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509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B0C4-A456-4939-B705-E12DE614F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1DF8-66D7-40CE-AF89-AFCC413D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0B91-3F7A-4EDF-989D-42A61208A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B0E7-2599-408C-81F9-F9AF91AF9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28FE-F353-46F5-98B8-8F781C26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4DB8-6033-4D28-B9B4-5AC0A94F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F7C9-B457-426D-917E-04043C10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A6D1-0E38-4D7D-91EE-1790BD0A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AE16-C1D8-4020-8EA9-25A219FB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9553-89ED-4D63-AF6E-FF867EC7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6640-A62F-46B2-9C09-45316622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08D9-27A8-4BEE-AE02-09778D94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B46B0-CD8B-4E63-A0B6-8B82DE5C99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