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67923"/>
        <c:axId val="41177489"/>
      </c:barChart>
      <c:catAx>
        <c:axId val="20567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77489"/>
        <c:crosses val="autoZero"/>
        <c:auto val="1"/>
        <c:lblAlgn val="ctr"/>
        <c:lblOffset val="100"/>
        <c:noMultiLvlLbl val="0"/>
      </c:catAx>
      <c:valAx>
        <c:axId val="41177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67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656-BE94-4E44-8B0C-278888D3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358-C6EE-4B4F-B753-4F94527D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B2FA-0CDD-44FD-9C45-85ACDF1B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C9C-7E45-45D7-B73C-A93959CB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B32-9572-43D6-AD15-BEA5560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B83-8493-4C9A-A954-19144DC6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B73-B741-41A1-B87D-D34ECB67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6DD1-CEC5-470B-8ACC-7DE52B09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419-69A1-4A52-863B-EE93B19E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EC6-45C1-405A-8A3D-69C72F1E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7FA9-F555-4E87-B129-41531CE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CF7-5F07-4D8B-B8B6-627F5487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DEED8-E393-4DA4-98F0-77A47A7C82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