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15183"/>
        <c:axId val="91053229"/>
      </c:barChart>
      <c:catAx>
        <c:axId val="89415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53229"/>
        <c:crosses val="autoZero"/>
        <c:auto val="1"/>
        <c:lblAlgn val="ctr"/>
        <c:lblOffset val="100"/>
        <c:noMultiLvlLbl val="0"/>
      </c:catAx>
      <c:valAx>
        <c:axId val="910532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15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A09F-1F70-4CAC-8865-4D678043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B7E0-C663-4EA2-8E28-1384B0C1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3607-6128-44D0-8833-3DBD1216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8BBD-2FAD-4BD6-B5EF-FCA25F42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4DB-CF19-4950-AEF1-0218E512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5211-CA8B-4DF3-80DE-68EE977A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6E83-F4C1-4FB2-BC2E-E7942A9F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9298-D723-4837-ADB7-3241C211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B14D-7041-4B2C-8D18-38418A07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7A0A-254C-4A1E-B5BE-69F7E9DF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4288-17DA-4B98-9CBE-3461ACFC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64E-3E55-4B1C-B605-942D6895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A0A62-B212-4D66-8DC8-DAB5150C87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