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10485"/>
        <c:axId val="2423427"/>
      </c:barChart>
      <c:catAx>
        <c:axId val="62104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3427"/>
        <c:crosses val="autoZero"/>
        <c:auto val="1"/>
        <c:lblAlgn val="ctr"/>
        <c:lblOffset val="100"/>
        <c:noMultiLvlLbl val="0"/>
      </c:catAx>
      <c:valAx>
        <c:axId val="24234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04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A32D-548B-4602-83F6-59202A54C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829B-049C-4421-B20A-55D19FFE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D80B-5156-4584-9D37-121B673A2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E1EB-4F90-42B5-868C-284A38C0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EEB3-EE94-4A1A-9F5D-0D95EA39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9306-AA5B-43DD-86D3-510E5ED6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9334-C09E-43BE-94B3-9571F067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2AB8-80B5-4D0B-9B12-07447DEC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E6B0-B83B-4673-B4A7-03EC314B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BCF3-00CE-4886-B906-CB870D01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A3FB-B776-49F9-BA57-7B5B63AE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9FA7-FD0F-4ED2-B7B1-B32C6031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97E3F-7F1C-4548-ACC1-C2969A29E6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