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491943"/>
        <c:axId val="11028447"/>
      </c:barChart>
      <c:catAx>
        <c:axId val="754919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028447"/>
        <c:crosses val="autoZero"/>
        <c:auto val="1"/>
        <c:lblAlgn val="ctr"/>
        <c:lblOffset val="100"/>
        <c:noMultiLvlLbl val="0"/>
      </c:catAx>
      <c:valAx>
        <c:axId val="110284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4919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1F03-02A4-4192-89BE-009B07BD3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511B-037A-4FEB-A9A0-CAA6B475F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378E-7705-48DB-8627-DCFDF5572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F180-A8D8-47FD-8EDB-ED41A805C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8FD3-15B7-4A8A-ABEF-AEA956DE3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E9CC-7B4E-4CFA-A127-B01439C02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BE0C-8527-4C64-B4A7-8F168D19F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9F75-958A-4A07-A943-C8D450D90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330F-87FD-4D37-9036-D89A3653C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FEDB-8A5E-43D4-9B1F-98AA49A5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C14C-C6D0-42D7-B986-75824183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7D02-0EB6-4C3D-94B4-A4D6CF89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D7124E-344E-4278-8DD4-2E37DB76DBB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