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423827"/>
        <c:axId val="54431283"/>
      </c:barChart>
      <c:catAx>
        <c:axId val="904238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31283"/>
        <c:crosses val="autoZero"/>
        <c:auto val="1"/>
        <c:lblAlgn val="ctr"/>
        <c:lblOffset val="100"/>
        <c:noMultiLvlLbl val="0"/>
      </c:catAx>
      <c:valAx>
        <c:axId val="544312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238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4D9D-686B-49B3-9484-8470D884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5229-8182-4A59-B19C-043C50EA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7029-FBE3-4705-B6A8-F6C487892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9FED-28F9-40A8-84AB-EE4041961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2D79-AB5E-40CD-8D53-FC0C95F9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040A-0393-4B62-991B-0B3D93A0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99D1-DA29-4BF6-A079-4673A09F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0B62-D2C8-4F44-971D-9EFBE727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D434-3177-4E7D-B311-BD7D74F5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1890-BC00-4594-9297-CC6A895B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218A-C050-4FFF-8D3C-50325AC7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1508-BF48-4E3F-B039-00160C7E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5716E-53D4-46C1-A9F8-C328C70194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