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76190"/>
        <c:axId val="50702023"/>
      </c:barChart>
      <c:catAx>
        <c:axId val="50876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02023"/>
        <c:crosses val="autoZero"/>
        <c:auto val="1"/>
        <c:lblAlgn val="ctr"/>
        <c:lblOffset val="100"/>
        <c:noMultiLvlLbl val="0"/>
      </c:catAx>
      <c:valAx>
        <c:axId val="50702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76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9E9-B9DD-4A69-B5EC-1D2EC367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7E4-D6FC-41A2-859C-2DC42D75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966-67A1-49F8-98DA-623ED413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9B9-BA58-47CD-8D4F-616A9655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AF8-D65F-460D-8C5F-54BF930C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A07-F976-4E37-856B-91A62350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E63-D583-4366-8587-496149D8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932-F78C-461D-B890-9E4345E4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8FB-0B64-469A-B680-B422FBCF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C82-ECE4-4AAC-8DFB-8E434DCE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FA8-1A88-4DAF-8AC7-FB5C6E9D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E91-AE2E-4DB3-A739-B6B92EF0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922B2-0D33-4268-B683-DF00F37D4D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