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10951"/>
        <c:axId val="56032006"/>
      </c:barChart>
      <c:catAx>
        <c:axId val="46410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32006"/>
        <c:crosses val="autoZero"/>
        <c:auto val="1"/>
        <c:lblAlgn val="ctr"/>
        <c:lblOffset val="100"/>
        <c:noMultiLvlLbl val="0"/>
      </c:catAx>
      <c:valAx>
        <c:axId val="56032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10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42F-0F49-41FF-9905-E19785C5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DEA-63ED-4331-8B93-806D77F7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EFA-FCB3-4AC1-84BD-31911DD6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15F-ACE2-4853-82C9-C99AF887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2D8-DF34-44B3-AD53-8A21D5B8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406-8B13-4CE2-9CF2-D38A32AB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4F2-544E-49E0-9CB3-EDACB62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107-BE4A-4C74-977D-9D6316D0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0AA-5ED8-4454-A38B-A423675C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890-D3E1-4E80-A408-FAE0DA0C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BC8-44E7-48E0-8F4D-8CE6848B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27D-5DC9-4CAB-8533-8DEB6C3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8A2FE-4E97-4563-9BD6-CC4E571D82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