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530984"/>
        <c:axId val="94551299"/>
      </c:barChart>
      <c:catAx>
        <c:axId val="615309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51299"/>
        <c:crosses val="autoZero"/>
        <c:auto val="1"/>
        <c:lblAlgn val="ctr"/>
        <c:lblOffset val="100"/>
        <c:noMultiLvlLbl val="0"/>
      </c:catAx>
      <c:valAx>
        <c:axId val="945512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309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3B6E-1A6C-4D67-99FF-1D1FD0B5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F18A-75CD-4ECA-9670-1E2F8481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4135-2818-440C-8065-9ED0615E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28F-F4BE-4B84-A166-32DF4F15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A918-765B-4748-BDBA-1698B967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B256-ADF7-4938-BC01-65DEE751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78DC-A3A0-491C-BFB9-A46EC042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BD1A-08C8-4BCC-B2D3-405B0FB7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4DE7-D8A9-44B8-A29B-8826F943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D9D6-A988-4F55-AC7A-9223E115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3C39-7CB4-4A5B-A1F3-47D79B16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1638-BDA9-4490-87BD-ABD00460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42987-F352-433C-B3C0-6CAF2893F9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