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906839"/>
        <c:axId val="63265309"/>
      </c:barChart>
      <c:catAx>
        <c:axId val="17906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65309"/>
        <c:crosses val="autoZero"/>
        <c:auto val="1"/>
        <c:lblAlgn val="ctr"/>
        <c:lblOffset val="100"/>
        <c:noMultiLvlLbl val="0"/>
      </c:catAx>
      <c:valAx>
        <c:axId val="632653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06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4804-610E-421A-96F0-638049A7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032-D141-4E03-984E-69D6348C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57F-EEDE-41EC-BABE-F5BBAB7E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327-F7A8-4F6C-B125-3711A838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BE95-1429-46BB-BF14-25C2AF3A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CABA-1F50-4E6F-899D-0AFD7FD1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238-4445-454B-9683-34AD3018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D11F-85FD-49C2-9F94-57C87686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7625-73BB-4462-8C82-CACCEE85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F7B-9AE8-400F-A141-D64050CD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21CB-D4CF-4EF9-9337-9CDCACBA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AB13-5AE0-4BD7-817C-34015851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70D5A-6EB5-4FF2-AE7E-E2883893AB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