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3685"/>
        <c:axId val="48728078"/>
      </c:barChart>
      <c:catAx>
        <c:axId val="68183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28078"/>
        <c:crosses val="autoZero"/>
        <c:auto val="1"/>
        <c:lblAlgn val="ctr"/>
        <c:lblOffset val="100"/>
        <c:noMultiLvlLbl val="0"/>
      </c:catAx>
      <c:valAx>
        <c:axId val="48728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3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ACA-6A7A-4C36-B2B9-EB4EFE91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6B9-F6D6-4CDC-9AC2-961E6B48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D05-25C9-49D0-BD91-9C3A062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E3E-41A6-4648-9C5A-3A1F797C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49F-17F5-4D50-AEC4-CB239CE1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DFD-AAA8-40A1-BF8C-9A439E9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3C9-5612-418B-BD3F-CA13EDF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FEB-1347-4F7D-BA21-59945D8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FCD-A909-48FE-824F-E3CC967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898-C81C-47AF-BBA5-19D9C03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223-1626-400B-93A6-5919AA4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2E3-2486-4B8D-B514-71917EE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6E7FB-B685-4B91-ABAA-4C71F1610D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