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16827"/>
        <c:axId val="86759661"/>
      </c:barChart>
      <c:catAx>
        <c:axId val="88716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59661"/>
        <c:crosses val="autoZero"/>
        <c:auto val="1"/>
        <c:lblAlgn val="ctr"/>
        <c:lblOffset val="100"/>
        <c:noMultiLvlLbl val="0"/>
      </c:catAx>
      <c:valAx>
        <c:axId val="86759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16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D39-A54C-4993-92F3-FEC8BD4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FAA-F9ED-476E-8E9B-EB2D8C22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137-9773-429C-BB73-C8A9FA37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45C-93B7-43B8-9EED-F75CF946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759-866A-4E1B-B80A-85B53E7D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FC5-9323-4181-AD21-E1B4855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585-AAA2-45FC-B04C-5D16206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BAA-404E-4493-8DEE-A96A7243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8B9-0B1F-4D85-88E6-9A9BC14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810-3B19-4519-9D77-1E614B0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C87-1739-4E0F-B870-5B9BCB8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18A-A4E9-47C8-AE56-2BECEEF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BDD0F-53C7-4FE2-B61A-F1CFC1C792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