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632944"/>
        <c:axId val="32404836"/>
      </c:barChart>
      <c:catAx>
        <c:axId val="89632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04836"/>
        <c:crosses val="autoZero"/>
        <c:auto val="1"/>
        <c:lblAlgn val="ctr"/>
        <c:lblOffset val="100"/>
        <c:noMultiLvlLbl val="0"/>
      </c:catAx>
      <c:valAx>
        <c:axId val="32404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32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568-DDC6-43CE-AEC4-92750F212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74F-50E3-4575-92EB-FF21A42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368-1B21-46D5-BD0E-1701CD78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124-A592-4151-A260-5C482E00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96E-AEAF-435A-AD31-19D6055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E99-C322-468F-ACCE-D1AB3833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CDC-FD80-4812-B070-713865AD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056-AB5F-4E3A-9999-98CD6EB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100-9F96-47C5-8E8D-73271305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171A-4078-4D53-A3E4-233C2827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57B-C1B6-4240-B094-7E12688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44D-4462-42A5-8565-77BB306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56301-58C4-436C-914D-5AA75F21EC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