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34183"/>
        <c:axId val="75822450"/>
      </c:barChart>
      <c:catAx>
        <c:axId val="83534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22450"/>
        <c:crosses val="autoZero"/>
        <c:auto val="1"/>
        <c:lblAlgn val="ctr"/>
        <c:lblOffset val="100"/>
        <c:noMultiLvlLbl val="0"/>
      </c:catAx>
      <c:valAx>
        <c:axId val="75822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34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6F5-F888-4D3E-8FF3-9F6F0D29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ABC-B420-4728-BDAC-2C4637C2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783-3AD8-4EBC-A4DD-A8AF9B1F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786-E34A-47D2-8060-2729E4DE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5B4-5DF1-48B3-8998-D8EBC596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46E-E95D-4F58-A2A6-B457E081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7C0-C5A0-414F-9A58-3CCBD62A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EDB-48E1-4E35-BDB5-43F7B257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D44-4505-470C-B0AD-D2351A1B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5E0-3E99-4C12-B054-8DA56C77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082-5A1B-4BFA-A3B4-6F2F5AC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368-DF44-4256-9206-3F5C7FE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83201-A737-4161-9565-64119759F5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