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59062"/>
        <c:axId val="36166854"/>
      </c:barChart>
      <c:catAx>
        <c:axId val="223590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66854"/>
        <c:crosses val="autoZero"/>
        <c:auto val="1"/>
        <c:lblAlgn val="ctr"/>
        <c:lblOffset val="100"/>
        <c:noMultiLvlLbl val="0"/>
      </c:catAx>
      <c:valAx>
        <c:axId val="36166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590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56D-FE2F-4588-B809-D53C96CF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8FA-DDC3-46AB-B252-D5792F1B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1B2-9D8C-46F2-9D4D-C67356FA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455-1943-4308-9B11-F1A3C32F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A925-66F1-4BF4-90C6-0D11361E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681-3F79-447D-8EEF-BCD71F7A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7D0-5304-45C3-BF7A-FCE76DE3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307-9ED7-4050-B525-AD2A447C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2C0-7A51-4A4C-A96A-94FDA371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E4F-C370-43B2-9F77-6F155AD5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59A-39A9-4B0F-B853-405F7A0B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167-02DF-404D-B471-4AF4F019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A9375-C0F8-4FEE-96AC-1778511F2F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