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65014"/>
        <c:axId val="21656558"/>
      </c:barChart>
      <c:catAx>
        <c:axId val="66065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56558"/>
        <c:crosses val="autoZero"/>
        <c:auto val="1"/>
        <c:lblAlgn val="ctr"/>
        <c:lblOffset val="100"/>
        <c:noMultiLvlLbl val="0"/>
      </c:catAx>
      <c:valAx>
        <c:axId val="21656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65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868-CAA0-4F76-B3B4-E0F4C240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746-1D86-4295-8585-C02E44AC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E81-1012-45AF-A106-4E6ECFFC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00A-4BE7-4BD0-8472-1E745649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530-15DE-4B25-84BF-65620D87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60C-532C-43C4-B7C9-7B9BA0AA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771-B431-4D47-8649-BA43CAED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4DE-7EDA-4CF6-9043-3254B1F2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97E-4396-4EAE-8268-B491510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D57-08E8-417B-8C0D-F83E4B5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8F3-877D-4758-916D-7FC6E2A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F8F-DD26-42EF-8513-6381667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24145-B39B-46DA-8CAE-F8F19318F0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