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823025"/>
        <c:axId val="68849875"/>
      </c:barChart>
      <c:catAx>
        <c:axId val="238230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49875"/>
        <c:crosses val="autoZero"/>
        <c:auto val="1"/>
        <c:lblAlgn val="ctr"/>
        <c:lblOffset val="100"/>
        <c:noMultiLvlLbl val="0"/>
      </c:catAx>
      <c:valAx>
        <c:axId val="688498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230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3623-35B4-445C-A24A-492818C3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40CA-3299-4907-9BE6-3B815584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A46C-0F24-4E95-B5A3-0FBF8EC4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8847-6701-48EA-9ACB-81AD0191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9CD1-EAD3-40BC-A260-0CE483E8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1A3F-750C-4761-B8B4-FCE46AC2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02C6-D2BC-4CAD-9294-7ED26F2C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9827-C9F6-485E-80CE-4DF054C7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A6B5-3284-4F7E-92B9-F72F4C9D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93EA-B328-4178-8EB0-BFA3711A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99BF-EDDB-4706-B6D9-B16D7702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9B33-90D5-4908-88CA-A4F156A5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52EBD-6E0C-454D-AB13-49ED31F88F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