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48768"/>
        <c:axId val="88534500"/>
      </c:barChart>
      <c:catAx>
        <c:axId val="10648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34500"/>
        <c:crosses val="autoZero"/>
        <c:auto val="1"/>
        <c:lblAlgn val="ctr"/>
        <c:lblOffset val="100"/>
        <c:noMultiLvlLbl val="0"/>
      </c:catAx>
      <c:valAx>
        <c:axId val="88534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48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7F3-5E21-42A7-9821-ACDAEA1B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6AB-B9BB-41FB-A158-5BEDD509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A96-A237-4EEC-B748-91257C9B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51C-1015-4224-91AC-6798CE94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5A5-BA21-43A6-8704-9D39FE2C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133-9AB6-46FB-A40B-02436E17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1E8-304C-4517-A46D-A811303B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764-C234-4294-BEAF-E9D26FDD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25D-A783-4BD1-AD3B-A32179DC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B00-02B9-4CE0-BB46-4A7A1ABE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528-7E47-4340-9F90-F6AE6BF8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27F-DC98-4512-BB1B-2341726E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6E5AB-DF55-4EFB-A3C9-3A791DB852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