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22137"/>
        <c:axId val="73774454"/>
      </c:barChart>
      <c:catAx>
        <c:axId val="73522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4454"/>
        <c:crosses val="autoZero"/>
        <c:auto val="1"/>
        <c:lblAlgn val="ctr"/>
        <c:lblOffset val="100"/>
        <c:noMultiLvlLbl val="0"/>
      </c:catAx>
      <c:valAx>
        <c:axId val="73774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22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888-BFDF-47B9-B662-3EF03FC1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4DF-2EEB-428C-A508-F3020886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924-EC05-4B55-9B4C-3032AC68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79A-1258-4127-A0B4-B8502DF0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89B-6489-4B89-859A-6470135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EC6-7DF3-4081-87E6-8CE0267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4DD-FD9F-4D7E-B116-D39313A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E19-89B5-4CF7-9B88-74732B9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2DF-41D6-45A6-BD6B-41BBB00B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6C7-DBE9-4AAD-9003-5DD933E7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14C-9B15-41E2-94EA-F58AA37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5DC-1197-4F44-9DC0-F2F64885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D8F3-7D7B-469E-A0DA-BCAA150414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