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295201"/>
        <c:axId val="36801152"/>
      </c:barChart>
      <c:catAx>
        <c:axId val="612952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801152"/>
        <c:crosses val="autoZero"/>
        <c:auto val="1"/>
        <c:lblAlgn val="ctr"/>
        <c:lblOffset val="100"/>
        <c:noMultiLvlLbl val="0"/>
      </c:catAx>
      <c:valAx>
        <c:axId val="368011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2952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C941-25FE-4E55-97B8-3283EFCDF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B82B-BC29-42D3-A584-95764A7D9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A29F-2B23-4E2F-BBD0-5E576B769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FA65-2514-49F1-8C09-0F8F177C3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FC47-4EB6-499C-AEB6-5668E05DE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9F29-6D83-458E-9114-18452F881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FC1E-4D74-43AD-A663-32FF65E65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D257-6007-4B7B-AD9E-88AC68BF8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B6EA-1AB5-4612-9C20-8D5C9DC46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BB31-572C-46BB-8F57-0F5AD17EA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CC72-C4D8-483C-9B71-2ED5E534F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A42E-797A-4454-A106-D18ECFB52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EBCBCD-9BFB-4581-99FE-3D4578F3CF4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