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376894"/>
        <c:axId val="82942095"/>
      </c:barChart>
      <c:catAx>
        <c:axId val="343768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42095"/>
        <c:crosses val="autoZero"/>
        <c:auto val="1"/>
        <c:lblAlgn val="ctr"/>
        <c:lblOffset val="100"/>
        <c:noMultiLvlLbl val="0"/>
      </c:catAx>
      <c:valAx>
        <c:axId val="829420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768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B548-C9B1-47AA-9161-1C98E40F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7EFF-D0A1-4168-BD2E-3A469B84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41C0-9944-4D47-A2F6-DBDAD981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6BD7-2220-4ED1-B2DD-0EB05EE56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4CC5-2736-4201-971C-B91D3328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398A-950B-4910-8B19-65DE26B1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4F34-84A2-450C-A8A3-C959B696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934B-2A2B-4538-93A5-D3B9E435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E0A8-3DD8-4D83-9A53-0B3D4588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0808-A9E6-4947-9CF7-B0EEAB16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68E2-FF1F-41FB-9475-B4F17C03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0248-C246-46C0-9255-F7A28833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54FE8-2E7F-41E7-BD10-3DC0E5A265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