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77466"/>
        <c:axId val="25567311"/>
      </c:barChart>
      <c:catAx>
        <c:axId val="62277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67311"/>
        <c:crosses val="autoZero"/>
        <c:auto val="1"/>
        <c:lblAlgn val="ctr"/>
        <c:lblOffset val="100"/>
        <c:noMultiLvlLbl val="0"/>
      </c:catAx>
      <c:valAx>
        <c:axId val="25567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77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A80-F6E9-49DA-8159-98763DA5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BF7-40D2-45F3-BCDB-2CBBDED1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B69-D2F8-477E-9458-6F4EBF7E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600-92F9-47C2-8BE1-1C060E2B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CB4-3BAC-432C-8BA3-89C19447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DEC-052B-4F62-8BA1-70DEB4EB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115-E7F9-42E1-9274-E15101FE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604-9B47-4D7D-A618-CDF16917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E8E-3A01-4A9E-A6D5-4DEF5FA2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B7D-8D18-465B-85D7-53C4BA5A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C76-2FE2-473B-B62D-2C79BF97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968-BE09-4947-8B13-67DEE4C5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E97FF-89E7-424E-9309-2D70A2AA58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