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29615"/>
        <c:axId val="48608927"/>
      </c:barChart>
      <c:catAx>
        <c:axId val="31629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08927"/>
        <c:crosses val="autoZero"/>
        <c:auto val="1"/>
        <c:lblAlgn val="ctr"/>
        <c:lblOffset val="100"/>
        <c:noMultiLvlLbl val="0"/>
      </c:catAx>
      <c:valAx>
        <c:axId val="48608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29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961-2333-4BD1-AE5A-B76466E9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3D1-A8ED-44B4-B0C2-C31E5C6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618-DC88-4868-B1D5-40E64086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656-B6DB-4477-9F4C-53CBCD72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B00-002A-43CF-9854-B5EFDCB5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D20-6442-44D2-A328-01C10F67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9C0-F62F-4F35-8139-BF6E6AD7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AA5-DAFC-4EE7-8218-7E0D3371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B8E-80BE-4755-AA17-04B2493E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A9A-5F09-4FB4-B06F-14409306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0B6F-3493-4038-8298-8F991BA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3A4-CB28-4E26-963D-7D86C886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4944B-7999-45AF-80EC-E008CF23A6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