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47632"/>
        <c:axId val="88423511"/>
      </c:barChart>
      <c:catAx>
        <c:axId val="65047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23511"/>
        <c:crosses val="autoZero"/>
        <c:auto val="1"/>
        <c:lblAlgn val="ctr"/>
        <c:lblOffset val="100"/>
        <c:noMultiLvlLbl val="0"/>
      </c:catAx>
      <c:valAx>
        <c:axId val="88423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47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D21-C796-4577-8029-20D90941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A6C-2D64-4B93-946A-5EDA8AAB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B14-3C65-46D1-83AF-4BB1FC63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D2A-BA09-4F17-B121-36ABF921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FB2-53CB-4022-AC06-2B8E7B4D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670-4815-493C-A257-BE74478D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670-C299-441D-86C3-581C74FD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8A9-495E-429F-BC25-5CB05E71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869-E5FB-4AA3-846D-94918DFE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7C5-7535-4BC2-822E-CAA4A8E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921-6BEC-4347-923D-EC157F57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8DA-1389-425C-AA1C-31EF415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4BF13-4E18-4CEA-9166-84A29DF920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