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10298"/>
        <c:axId val="27292090"/>
      </c:barChart>
      <c:catAx>
        <c:axId val="23710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92090"/>
        <c:crosses val="autoZero"/>
        <c:auto val="1"/>
        <c:lblAlgn val="ctr"/>
        <c:lblOffset val="100"/>
        <c:noMultiLvlLbl val="0"/>
      </c:catAx>
      <c:valAx>
        <c:axId val="27292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10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2F3-CEBA-48D3-9B7F-4E540E84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4D2-FB1E-48C1-A992-20819EC3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C7D-6735-456D-9EB7-3A5ABC5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6B0-D2BE-44CD-9AF6-E10C4B7B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E6C-4F55-40D0-B843-51A7D62C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2C4-4DE7-4036-81A9-E1AF6F5C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BDB-7E67-4C79-B253-07D9C4ED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82D-4A17-4C5D-8D76-D7AA202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347-CC69-4C4C-AC2F-D6E405B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F55-E131-42E0-BAA2-1FE21C4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622-4E1F-4772-9B93-BF223882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F49-CFB9-4991-8442-EF48927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32515-CA78-40D7-9B18-C9AEA540B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